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E16A84-C33B-41E0-8DB1-3AD147E868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2E0E4-4674-47F6-A778-43BE57959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assessment data includes NeSA-Reading (vocabulary), NRTs (MAP Test for Reading/Vocabulary), local classroom assess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ct participant surveys follow each set of F2F, PLG, and VC follow-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it interviews of students, teachers, administration at the end of th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U personnel survey will take place at the end of th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3B352-119D-4CC0-8851-11BDCB28D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collected on one of many questions from the online district participant surv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ey questions are tied closely to the set of learning opportunities (f2f, PLG, VC) just previous to the lau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8B266-F93D-4A8D-AD96-484825FA3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79FD6-F026-4E9B-B3BD-F2173A74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92D46-3D74-4D0C-AA86-524D0EA9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1D46E-C1BA-4C41-9B5B-91EDE0F1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A4A36-B6D7-42DA-BC65-C3C8AE2D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0CD5E-6E37-4B33-B362-B6A27BED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8F50A-117F-4F36-BC17-10EAC9BC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1A019-87F7-4522-AEA9-06B6D363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EF73D-F7BD-46BC-9C0D-0EC02ED7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3B50F-770F-475D-AB02-46862727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0BB2F-A204-42C2-ACF0-3D2DC584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FD02F-D988-4C24-B6FF-BBF8BA29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13517-5E53-43C7-925C-19EC0613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C4E93-570C-43A1-8B82-D6B7211F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747C6-F8ED-4469-A82D-4D778CCF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C8145-F71B-415B-AA9B-65AEB622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3649D-89A9-47BC-A1E5-DB8AD4E9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ACB7E-6C36-4910-B13D-E23A9D37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0E3F3-82F2-41FA-B9A8-17E4621A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27AE4-EFE0-445D-BB80-97639DDC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A7A66-B273-4B9C-BF36-9B5EC6AA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D1278-7961-48EF-B4F0-CD86D17C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E1343-EA16-4AFE-8153-34F9D12D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615A3-9273-4924-8E90-6AFA720C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76F30-078F-4922-8910-44D205DF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542B1-0770-4287-8094-FDBF89BF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D1A1A-6A40-455B-95D0-F4879FB8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D26D7-3966-4553-93F0-F5F62BAC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39487-5671-4187-B201-CB130A71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3F66E-F0DD-4B45-9A2F-E177C223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02FF4-7BBE-4F1F-B0DC-1D053A65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B81F-0475-4744-8BE5-E1C78A0F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A47B4-ED63-4CDD-A50E-8852BB60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4A6B1-4728-4532-8992-5D635AF7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056DB-150E-4A5A-91E0-F0EA157E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77115-BF6B-458A-8CA0-9560F4989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D8206-3811-4C83-A86F-7A9949B6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44E93-F531-4DFB-8640-1CB1971B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08B95-FA28-4156-8193-260FD918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C1224-0858-464E-A71B-89FD2E44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430EB-556B-4D4F-A34D-6C48CA99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2BF2F-E526-41A8-B7F6-BAE0D7FA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B5CF-3C98-41EB-BF77-E5989D37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37CD8-04D1-43B3-A239-5A1440D0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F1FC8-C13B-4C50-8343-6AF0C8E4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16270-8B7E-4F71-9604-68B398ED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478D7-2655-4306-BF20-99DDB63B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EFBB9-1668-436E-BCC2-B53C2F39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BE1F-A2D3-4D7D-8D7E-6CEB9C52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A6F7-D390-40B9-91DA-EF0B2908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5561-168D-401F-B467-3611E7B8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662F-79A9-44C0-97A3-2EBA7572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B268-11CD-467A-900B-92D101C6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D4CA-1959-436D-B12A-6D166C93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8008-0BB4-4E76-A4CD-049EF970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DE14-2F34-4A3F-A5BD-47D628FC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94DE-BEBE-44C0-B555-B23F1157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BB2A-F9CF-490C-A9EA-0750B354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6334-C338-4FCF-BFCF-D52E6A92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646E-DA3E-4DBF-A235-289A2059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CE49-BE4B-41C5-85FB-BC6F0565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C39E-2E19-4A01-8D2E-B3BAF1D4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9590-3346-4400-9EF7-9061C722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EAAC-26AD-423C-BC14-86FBD300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8F97-EA6E-4932-B30D-C92FB287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8371-5CD7-42F3-8457-475469D4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76BB-C7D6-4D8C-ADC5-D674A8C7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1626-F103-479D-A1D8-4ED14EA1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8B7F-4A6E-4912-B509-DC1C6528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0482-2708-4645-9409-CCC8DEE2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91C9A-EAB8-4CDB-BAFF-ACFAC640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3ABAE-8243-43EB-AA6F-7C93232E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9C7CA-FECD-4585-96AD-7DFA0C28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142AF-6729-45E4-8653-54FD5BBA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B30A7-B0E2-41D6-975A-C92DF0BC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0CF0E-D4AF-4085-82CF-DBD8426C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F139D-6108-40AF-B595-493B3DEE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BAB35-FF50-48DB-9622-EC9CDD98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37163-E2DB-412C-B371-A361467A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6F3EA-8E00-476B-AC56-AE85F0E3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D1550-7A13-4067-8DA5-298984909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70669-8658-4BAA-998E-C7109C13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1371B-0DB2-4C32-8538-6823548B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11607-537F-4856-94C5-8823B795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C04EB-68CA-49BE-BA14-94D8A827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76410-7D68-41C9-B4B5-EDB3C88D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269B5-62F3-4FAD-8AC1-A66C721D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0D2E3-2270-4585-8100-7DE0FEE1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0A99B-ABBE-4E02-9475-7A21A25F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C3F2E-CFC2-4F74-82B8-910FB7D6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408DF-D8BF-4EA4-ADA6-248E4228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719CC-5739-41E2-806F-A10F586E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3C321-E0C9-4F2E-8B2B-F630407A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61830-6374-4C92-A453-46CFD441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121AE-6FB7-4A50-8986-965DA8A3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23E18-7315-4231-9423-73464EBC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9BC3D-46D9-4DF1-BD06-111A7260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9F213-9CED-40E5-8EC7-6D2CDCA4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C5A26-1EDA-4DEF-8D21-F0D84ED8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83F69-322C-4379-9284-4446D954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8D30E-942C-403B-A3F2-DE7E09D4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17FFB-CABD-4D28-9EB7-8FC3D3DD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D342A-CF8B-46EC-B399-61EC4541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4457F-B79C-42E3-8D04-BB5BFB8F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2C1D4-A21B-4189-BA82-9C3C28E2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4223C-BAF6-4EFC-9699-2E5A630D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7B086-9356-4E2E-A20C-855BDD28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BCFCB-BF12-48CC-9F3F-6B561D3C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F79D5-A215-43F8-A444-28A1339B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8D67C-184B-461E-BFAA-CC09C35B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40A30-3907-4824-97D4-CDC31BB0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B3977-06A3-43D5-B472-5536336A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E2877-EA76-4388-B407-21752C91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5D31B-9BBB-4011-B2E0-4D114595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9A135-3428-4AD7-B4F1-D6BA59DF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4FA91-21FC-4B6A-BFF9-893BE350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67F39-88BB-4E9F-88A0-443A611B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75D08-D59C-42F4-B2C1-C625D7BC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37FE0-F757-4434-813D-E021577C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FBF46-D847-4A98-A511-598E5BA8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E54F5-970E-462C-91D0-D8667128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DEC98-3F3A-4F28-8231-3B728504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4C664-DFE1-404D-AC3A-E89BF263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307D4-30D7-4CB9-ABFC-F6122D66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2BDEF-E260-459F-9BA4-7445262D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F381E-CA50-4DB8-935E-9647AC5B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78D57-8EA0-4034-9C67-72FD6D6C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753C4-792E-4953-99F7-83764860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7A2C1-C9D9-4497-8F16-913D44E9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24EBD-AAA5-4439-A41C-3D65509F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49A1B-9782-456E-ADEF-1C9D8E3D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CC20D-C472-4AA3-B807-2A45E59B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8CDE7-FD52-4B3C-AF0D-8CEE8E25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DF87F-5989-4F9B-8584-0F6B8715606F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C52F50-0029-4A4F-8C34-6B22C931311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2C4AC-C1B6-4B60-9E60-188BEDC6252F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D574E-8117-496C-B10C-5AD72242298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2D3B2A-6C26-4420-8B82-EA919EAEC48F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7B94E-686E-4C8B-B51A-D3B73B44643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25890D-46D6-46BE-850E-89F26F40CD79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A59E2-3827-43E9-937A-D35077C8F58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1AAD1-3D33-4759-BDA7-A0C7E16D176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F7212D-7228-4D2E-881A-DFFB1769B09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9C3569-ADC4-4F3F-AF11-9541D2B974D5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5C6D3-0C50-493E-8BC8-83031F00B08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9F06F-18C2-4DDA-8209-2F0F3B5C491C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21D0EB-7598-4A41-A59E-0170804E15E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128A3-D6CD-42B2-9AAA-5C2A1248CC1D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74035-25BB-4A43-B0D6-6F8AF9D2312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0BE00D-7F00-4751-A16D-029EF49B7537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3F3153-9A7A-4081-92B7-09FDAB2401F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81A7DE-81C8-4507-98BE-A2A72B100292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1D72C6-2F31-4B2E-ABCA-2E2B03F4BB7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87611D-A3C3-4492-8553-7D1914A6CFC1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FA5572-367E-4AB2-B7C3-520942E0D3A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esu3vocab.wikispaces.com/" TargetMode="External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3" descr="Orange_and_Black_Desktop_Them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TextBox 2"/>
          <p:cNvSpPr/>
          <p:nvPr/>
        </p:nvSpPr>
        <p:spPr>
          <a:xfrm>
            <a:off x="2324160" y="252360"/>
            <a:ext cx="734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SvtyTwo ITC TT-Book"/>
                <a:ea typeface="Bodoni SvtyTwo ITC TT-Book"/>
              </a:rPr>
              <a:t>Professional Learning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SvtyTwo ITC TT-Book"/>
                <a:ea typeface="Bodoni SvtyTwo ITC TT-Book"/>
              </a:rPr>
              <a:t>                 </a:t>
            </a:r>
            <a:r>
              <a:rPr b="0" lang="en-US" sz="4000" spc="-1" strike="noStrike">
                <a:solidFill>
                  <a:srgbClr val="ffffff"/>
                </a:solidFill>
                <a:latin typeface="Bodoni SvtyTwo ITC TT-Book"/>
                <a:ea typeface="Bodoni SvtyTwo ITC TT-Book"/>
              </a:rPr>
              <a:t>Update: Winter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8" descr="Handlightorange.png"/>
          <p:cNvPicPr/>
          <p:nvPr/>
        </p:nvPicPr>
        <p:blipFill>
          <a:blip r:embed="rId1"/>
          <a:stretch/>
        </p:blipFill>
        <p:spPr>
          <a:xfrm>
            <a:off x="0" y="2886120"/>
            <a:ext cx="9144000" cy="4029120"/>
          </a:xfrm>
          <a:prstGeom prst="rect">
            <a:avLst/>
          </a:prstGeom>
          <a:ln w="0">
            <a:noFill/>
          </a:ln>
        </p:spPr>
      </p:pic>
      <p:sp>
        <p:nvSpPr>
          <p:cNvPr id="501" name="TextBox 8"/>
          <p:cNvSpPr/>
          <p:nvPr/>
        </p:nvSpPr>
        <p:spPr>
          <a:xfrm>
            <a:off x="2362320" y="324000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Collaboration with others to clearly communicate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by effectively using content specific te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9"/>
          <p:cNvSpPr/>
          <p:nvPr/>
        </p:nvSpPr>
        <p:spPr>
          <a:xfrm>
            <a:off x="2355120" y="4349880"/>
            <a:ext cx="58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Implementation of problem solving strategies to discer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unfamiliar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10"/>
          <p:cNvSpPr/>
          <p:nvPr/>
        </p:nvSpPr>
        <p:spPr>
          <a:xfrm>
            <a:off x="2338560" y="5351400"/>
            <a:ext cx="680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Application of critical thinking skills such as comparis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classification, webbing, analogies, deductive/inductive reason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hypothesizing, and critiquing to demonstrate knowledg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vocabulary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7" descr="GOALSlightorang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390680"/>
          </a:xfrm>
          <a:prstGeom prst="rect">
            <a:avLst/>
          </a:prstGeom>
          <a:ln w="0">
            <a:noFill/>
          </a:ln>
        </p:spPr>
      </p:pic>
      <p:sp>
        <p:nvSpPr>
          <p:cNvPr id="505" name="TextBox 7"/>
          <p:cNvSpPr/>
          <p:nvPr/>
        </p:nvSpPr>
        <p:spPr>
          <a:xfrm>
            <a:off x="419040" y="2211480"/>
            <a:ext cx="861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For Students: To develop, apply, and demonstrate growth of vocabulary knowled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to improve comprehension and communication by effectively using strategie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include but not limite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6"/>
          <p:cNvSpPr/>
          <p:nvPr/>
        </p:nvSpPr>
        <p:spPr>
          <a:xfrm>
            <a:off x="400680" y="1460520"/>
            <a:ext cx="86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Teachers: To identify, develop, and implement learning targets and instruc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ategies that include but not limite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6"/>
          <p:cNvSpPr/>
          <p:nvPr/>
        </p:nvSpPr>
        <p:spPr>
          <a:xfrm>
            <a:off x="402120" y="1461960"/>
            <a:ext cx="86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Arial"/>
                <a:ea typeface="Arial"/>
              </a:rPr>
              <a:t>For Teachers: To identify, develop, and implement learning targets and instruc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Arial"/>
                <a:ea typeface="Arial"/>
              </a:rPr>
              <a:t>strategies that include but not limite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fessional Learning Program 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Picture 3" descr="CyclelightorangeCopy.png"/>
          <p:cNvPicPr/>
          <p:nvPr/>
        </p:nvPicPr>
        <p:blipFill>
          <a:blip r:embed="rId1"/>
          <a:stretch/>
        </p:blipFill>
        <p:spPr>
          <a:xfrm>
            <a:off x="658800" y="2462040"/>
            <a:ext cx="78264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3"/>
          <p:cNvSpPr/>
          <p:nvPr/>
        </p:nvSpPr>
        <p:spPr>
          <a:xfrm>
            <a:off x="259200" y="49320"/>
            <a:ext cx="87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The 3 Pillars of the Face-2-Face Learning Pro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5" descr="3-pillars2.jpg"/>
          <p:cNvPicPr/>
          <p:nvPr/>
        </p:nvPicPr>
        <p:blipFill>
          <a:blip r:embed="rId1"/>
          <a:stretch/>
        </p:blipFill>
        <p:spPr>
          <a:xfrm>
            <a:off x="762120" y="757080"/>
            <a:ext cx="7181640" cy="475164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13"/>
          <p:cNvGrpSpPr/>
          <p:nvPr/>
        </p:nvGrpSpPr>
        <p:grpSpPr>
          <a:xfrm>
            <a:off x="324720" y="1352520"/>
            <a:ext cx="2462760" cy="4982040"/>
            <a:chOff x="324720" y="1352520"/>
            <a:chExt cx="2462760" cy="4982040"/>
          </a:xfrm>
        </p:grpSpPr>
        <p:sp>
          <p:nvSpPr>
            <p:cNvPr id="513" name="TextBox 9"/>
            <p:cNvSpPr/>
            <p:nvPr/>
          </p:nvSpPr>
          <p:spPr>
            <a:xfrm>
              <a:off x="324720" y="5601240"/>
              <a:ext cx="2425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Bodoni SvtyTwo ITC TT-Book"/>
                </a:rPr>
                <a:t>1. The content will refer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Bodoni SvtyTwo ITC TT-Book"/>
                </a:rPr>
                <a:t>and be clearly focused 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Bodoni SvtyTwo ITC TT-Book"/>
                </a:rPr>
                <a:t>the goal of the projec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4" name="TextBox 12" descr=""/>
            <p:cNvPicPr/>
            <p:nvPr/>
          </p:nvPicPr>
          <p:blipFill>
            <a:blip r:embed="rId2"/>
            <a:stretch/>
          </p:blipFill>
          <p:spPr>
            <a:xfrm>
              <a:off x="763200" y="1352520"/>
              <a:ext cx="2024280" cy="308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5" name="Group 17"/>
          <p:cNvGrpSpPr/>
          <p:nvPr/>
        </p:nvGrpSpPr>
        <p:grpSpPr>
          <a:xfrm>
            <a:off x="2814480" y="1628640"/>
            <a:ext cx="3114720" cy="4706280"/>
            <a:chOff x="2814480" y="1628640"/>
            <a:chExt cx="3114720" cy="4706280"/>
          </a:xfrm>
        </p:grpSpPr>
        <p:sp>
          <p:nvSpPr>
            <p:cNvPr id="516" name="TextBox 10"/>
            <p:cNvSpPr/>
            <p:nvPr/>
          </p:nvSpPr>
          <p:spPr>
            <a:xfrm>
              <a:off x="2814480" y="5601600"/>
              <a:ext cx="3114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Bodoni SvtyTwo ITC TT-Book"/>
                </a:rPr>
                <a:t>2. The pedagogy will always include the identification and implementation of 21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  <a:ea typeface="Bodoni SvtyTwo ITC TT-Book"/>
                </a:rPr>
                <a:t>st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Bodoni SvtyTwo ITC TT-Book"/>
                </a:rPr>
                <a:t> century skill(s) in teachin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7" name="TextBox 14" descr=""/>
            <p:cNvPicPr/>
            <p:nvPr/>
          </p:nvPicPr>
          <p:blipFill>
            <a:blip r:embed="rId3"/>
            <a:stretch/>
          </p:blipFill>
          <p:spPr>
            <a:xfrm>
              <a:off x="3956040" y="1628640"/>
              <a:ext cx="871560" cy="382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8" name="Group 18"/>
          <p:cNvGrpSpPr/>
          <p:nvPr/>
        </p:nvGrpSpPr>
        <p:grpSpPr>
          <a:xfrm>
            <a:off x="6296040" y="730080"/>
            <a:ext cx="3079800" cy="5590080"/>
            <a:chOff x="6296040" y="730080"/>
            <a:chExt cx="3079800" cy="5590080"/>
          </a:xfrm>
        </p:grpSpPr>
        <p:sp>
          <p:nvSpPr>
            <p:cNvPr id="519" name="TextBox 11"/>
            <p:cNvSpPr/>
            <p:nvPr/>
          </p:nvSpPr>
          <p:spPr>
            <a:xfrm>
              <a:off x="6602760" y="5586840"/>
              <a:ext cx="2773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Bodoni SvtyTwo ITC TT-Book"/>
                </a:rPr>
                <a:t>3. The inclusion of technolog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Bodoni SvtyTwo ITC TT-Book"/>
                </a:rPr>
                <a:t>will be appropriate to support #1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Bodoni SvtyTwo ITC TT-Book"/>
                </a:rPr>
                <a:t>&amp; #2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0" name="TextBox 16" descr=""/>
            <p:cNvPicPr/>
            <p:nvPr/>
          </p:nvPicPr>
          <p:blipFill>
            <a:blip r:embed="rId4"/>
            <a:stretch/>
          </p:blipFill>
          <p:spPr>
            <a:xfrm>
              <a:off x="6296040" y="730080"/>
              <a:ext cx="2081880" cy="425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5" descr="framework1.jpg"/>
          <p:cNvPicPr/>
          <p:nvPr/>
        </p:nvPicPr>
        <p:blipFill>
          <a:blip r:embed="rId1"/>
          <a:stretch/>
        </p:blipFill>
        <p:spPr>
          <a:xfrm>
            <a:off x="-179280" y="0"/>
            <a:ext cx="1029492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TextBox 3"/>
          <p:cNvSpPr/>
          <p:nvPr/>
        </p:nvSpPr>
        <p:spPr>
          <a:xfrm>
            <a:off x="2170800" y="49320"/>
            <a:ext cx="573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Face-2-Fac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6"/>
          <p:cNvSpPr/>
          <p:nvPr/>
        </p:nvSpPr>
        <p:spPr>
          <a:xfrm>
            <a:off x="491760" y="1560600"/>
            <a:ext cx="51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The goal of the project is reite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7"/>
          <p:cNvSpPr/>
          <p:nvPr/>
        </p:nvSpPr>
        <p:spPr>
          <a:xfrm>
            <a:off x="512640" y="2455920"/>
            <a:ext cx="758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The content is delivered and a video of the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is made available on the Fort Calhoun web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8"/>
          <p:cNvSpPr/>
          <p:nvPr/>
        </p:nvSpPr>
        <p:spPr>
          <a:xfrm>
            <a:off x="500040" y="4618080"/>
            <a:ext cx="67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Input for videoconference follow-up is gath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9"/>
          <p:cNvSpPr/>
          <p:nvPr/>
        </p:nvSpPr>
        <p:spPr>
          <a:xfrm>
            <a:off x="509040" y="3720960"/>
            <a:ext cx="86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Support documentation for PLGs is distributed and expl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0"/>
          <p:cNvSpPr/>
          <p:nvPr/>
        </p:nvSpPr>
        <p:spPr>
          <a:xfrm>
            <a:off x="488520" y="5513400"/>
            <a:ext cx="77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A brief preview of the next F-2-F learning is pres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4" descr="wideDisplayLightOrange.png"/>
          <p:cNvPicPr/>
          <p:nvPr/>
        </p:nvPicPr>
        <p:blipFill>
          <a:blip r:embed="rId1"/>
          <a:stretch/>
        </p:blipFill>
        <p:spPr>
          <a:xfrm>
            <a:off x="641520" y="1047600"/>
            <a:ext cx="7860960" cy="5410440"/>
          </a:xfrm>
          <a:prstGeom prst="rect">
            <a:avLst/>
          </a:prstGeom>
          <a:ln w="0">
            <a:noFill/>
          </a:ln>
        </p:spPr>
      </p:pic>
      <p:sp>
        <p:nvSpPr>
          <p:cNvPr id="529" name="TextBox 3"/>
          <p:cNvSpPr/>
          <p:nvPr/>
        </p:nvSpPr>
        <p:spPr>
          <a:xfrm>
            <a:off x="2062080" y="227160"/>
            <a:ext cx="5211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Face-2-Face Online Vide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Macintosh HD:Users:billmenousek:Desktop:Fort Calhoun Presentation:FortCalhounF2F2Janet.mov" descr="/Users/billmenousek/Desktop/FortCalhounF2F2Janet.mov"/>
          <p:cNvPicPr/>
          <p:nvPr/>
        </p:nvPicPr>
        <p:blipFill>
          <a:blip r:embed="rId2"/>
          <a:stretch/>
        </p:blipFill>
        <p:spPr>
          <a:xfrm>
            <a:off x="2054160" y="1447920"/>
            <a:ext cx="50673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5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3" descr="wideDisplayLightOrange.png"/>
          <p:cNvPicPr/>
          <p:nvPr/>
        </p:nvPicPr>
        <p:blipFill>
          <a:blip r:embed="rId1"/>
          <a:stretch/>
        </p:blipFill>
        <p:spPr>
          <a:xfrm>
            <a:off x="641520" y="723960"/>
            <a:ext cx="7860960" cy="5410080"/>
          </a:xfrm>
          <a:prstGeom prst="rect">
            <a:avLst/>
          </a:prstGeom>
          <a:ln w="0">
            <a:noFill/>
          </a:ln>
        </p:spPr>
      </p:pic>
      <p:pic>
        <p:nvPicPr>
          <p:cNvPr id="532" name="Macintosh HD:Users:billmenousek:Desktop:Fort Calhoun Presentation:FortCalhounF2F2Pam.mov" descr="/Users/billmenousek/Desktop/FortCalhounF2F2Pam.mov"/>
          <p:cNvPicPr/>
          <p:nvPr/>
        </p:nvPicPr>
        <p:blipFill>
          <a:blip r:embed="rId2"/>
          <a:stretch/>
        </p:blipFill>
        <p:spPr>
          <a:xfrm>
            <a:off x="2106720" y="1206360"/>
            <a:ext cx="4979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5" dur="1" fill="hold"/>
                                        <p:tgtEl>
                                          <p:spTgt spid="5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PLG2.jpg"/>
          <p:cNvPicPr/>
          <p:nvPr/>
        </p:nvPicPr>
        <p:blipFill>
          <a:blip r:embed="rId1"/>
          <a:stretch/>
        </p:blipFill>
        <p:spPr>
          <a:xfrm>
            <a:off x="0" y="0"/>
            <a:ext cx="1029636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Box 5"/>
          <p:cNvSpPr/>
          <p:nvPr/>
        </p:nvSpPr>
        <p:spPr>
          <a:xfrm>
            <a:off x="889920" y="420840"/>
            <a:ext cx="689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Professional Learning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6"/>
          <p:cNvSpPr/>
          <p:nvPr/>
        </p:nvSpPr>
        <p:spPr>
          <a:xfrm>
            <a:off x="869040" y="1914480"/>
            <a:ext cx="63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Enhances professional conver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7"/>
          <p:cNvSpPr/>
          <p:nvPr/>
        </p:nvSpPr>
        <p:spPr>
          <a:xfrm>
            <a:off x="867600" y="3032280"/>
            <a:ext cx="57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Focuses on instructional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8"/>
          <p:cNvSpPr/>
          <p:nvPr/>
        </p:nvSpPr>
        <p:spPr>
          <a:xfrm>
            <a:off x="936720" y="4149720"/>
            <a:ext cx="709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Provides follow-up to Face-2-Face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9"/>
          <p:cNvSpPr/>
          <p:nvPr/>
        </p:nvSpPr>
        <p:spPr>
          <a:xfrm>
            <a:off x="810000" y="5267160"/>
            <a:ext cx="650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Allows discussion of student growth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targeted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Box 3"/>
          <p:cNvSpPr/>
          <p:nvPr/>
        </p:nvSpPr>
        <p:spPr>
          <a:xfrm>
            <a:off x="1866960" y="312840"/>
            <a:ext cx="551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Sample PLG Doc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2" descr="PLGDocument003.jpg"/>
          <p:cNvPicPr/>
          <p:nvPr/>
        </p:nvPicPr>
        <p:blipFill>
          <a:blip r:embed="rId1"/>
          <a:stretch/>
        </p:blipFill>
        <p:spPr>
          <a:xfrm>
            <a:off x="2208240" y="1243080"/>
            <a:ext cx="482580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Box 3"/>
          <p:cNvSpPr/>
          <p:nvPr/>
        </p:nvSpPr>
        <p:spPr>
          <a:xfrm>
            <a:off x="2512080" y="730080"/>
            <a:ext cx="398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Videocon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5"/>
          <p:cNvSpPr/>
          <p:nvPr/>
        </p:nvSpPr>
        <p:spPr>
          <a:xfrm>
            <a:off x="291960" y="2075040"/>
            <a:ext cx="84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Enhances professional conver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6"/>
          <p:cNvSpPr/>
          <p:nvPr/>
        </p:nvSpPr>
        <p:spPr>
          <a:xfrm>
            <a:off x="317880" y="3097080"/>
            <a:ext cx="65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Focuses on instructional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7"/>
          <p:cNvSpPr/>
          <p:nvPr/>
        </p:nvSpPr>
        <p:spPr>
          <a:xfrm>
            <a:off x="397080" y="4119480"/>
            <a:ext cx="80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Provides follow-up to Face-2-Fac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3" descr="wideDisplayLightOrange.png"/>
          <p:cNvPicPr/>
          <p:nvPr/>
        </p:nvPicPr>
        <p:blipFill>
          <a:blip r:embed="rId1"/>
          <a:stretch/>
        </p:blipFill>
        <p:spPr>
          <a:xfrm>
            <a:off x="641520" y="723960"/>
            <a:ext cx="7860960" cy="5410080"/>
          </a:xfrm>
          <a:prstGeom prst="rect">
            <a:avLst/>
          </a:prstGeom>
          <a:ln w="0">
            <a:noFill/>
          </a:ln>
        </p:spPr>
      </p:pic>
      <p:pic>
        <p:nvPicPr>
          <p:cNvPr id="546" name="Macintosh HD:Users:billmenousek:Desktop:Fort Calhoun Presentation:FtCalhounVideoConf12-10-10.mov" descr="/Users/billmenousek/Desktop/Fort Calhoun Presentation/FtCalhounVideoConf12-10-10.mov"/>
          <p:cNvPicPr/>
          <p:nvPr/>
        </p:nvPicPr>
        <p:blipFill>
          <a:blip r:embed="rId2"/>
          <a:stretch/>
        </p:blipFill>
        <p:spPr>
          <a:xfrm>
            <a:off x="1200240" y="1174680"/>
            <a:ext cx="674028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1" dur="1" fill="hold"/>
                                        <p:tgtEl>
                                          <p:spTgt spid="5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Box 3"/>
          <p:cNvSpPr/>
          <p:nvPr/>
        </p:nvSpPr>
        <p:spPr>
          <a:xfrm>
            <a:off x="577800" y="182520"/>
            <a:ext cx="8215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reflect the current researc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ange teaching practice, an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student achieveme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development must be ongoing, job-embedded, relevant to the teacher’s instructional needs, and collaborative in natu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ellen K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3"/>
          <p:cNvSpPr/>
          <p:nvPr/>
        </p:nvSpPr>
        <p:spPr>
          <a:xfrm>
            <a:off x="987120" y="263520"/>
            <a:ext cx="706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ESU #3 Vocabulary Wiki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5"/>
          <p:cNvSpPr/>
          <p:nvPr/>
        </p:nvSpPr>
        <p:spPr>
          <a:xfrm>
            <a:off x="223560" y="2052720"/>
            <a:ext cx="36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Include link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resources on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6"/>
          <p:cNvSpPr/>
          <p:nvPr/>
        </p:nvSpPr>
        <p:spPr>
          <a:xfrm>
            <a:off x="186840" y="3044880"/>
            <a:ext cx="28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Include link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resources on 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Bodoni SvtyTwo ITC TT-Book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Centur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7"/>
          <p:cNvSpPr/>
          <p:nvPr/>
        </p:nvSpPr>
        <p:spPr>
          <a:xfrm>
            <a:off x="230400" y="4405320"/>
            <a:ext cx="61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Provide access to Fort Calhoun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9"/>
          <p:cNvSpPr/>
          <p:nvPr/>
        </p:nvSpPr>
        <p:spPr>
          <a:xfrm>
            <a:off x="236520" y="5025960"/>
            <a:ext cx="76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Provide on-going pre-screened resources for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0"/>
          <p:cNvSpPr/>
          <p:nvPr/>
        </p:nvSpPr>
        <p:spPr>
          <a:xfrm>
            <a:off x="178920" y="1062000"/>
            <a:ext cx="31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Provide one spot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resources and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11" descr="Wiki.png"/>
          <p:cNvPicPr/>
          <p:nvPr/>
        </p:nvPicPr>
        <p:blipFill>
          <a:blip r:embed="rId1"/>
          <a:stretch/>
        </p:blipFill>
        <p:spPr>
          <a:xfrm>
            <a:off x="3959280" y="1050840"/>
            <a:ext cx="5013360" cy="2830680"/>
          </a:xfrm>
          <a:prstGeom prst="rect">
            <a:avLst/>
          </a:prstGeom>
          <a:ln w="0">
            <a:noFill/>
          </a:ln>
        </p:spPr>
      </p:pic>
      <p:sp>
        <p:nvSpPr>
          <p:cNvPr id="554" name="TextBox 12"/>
          <p:cNvSpPr/>
          <p:nvPr/>
        </p:nvSpPr>
        <p:spPr>
          <a:xfrm>
            <a:off x="217800" y="5648400"/>
            <a:ext cx="48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Bodoni SvtyTwo ITC TT-Book"/>
                <a:hlinkClick r:id="rId2"/>
              </a:rPr>
              <a:t> http://esu3vocab.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57200" y="1809720"/>
            <a:ext cx="82296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search ques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680" indent="-46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ject Evaluation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ta Collection and Re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Content Placeholder 3"/>
          <p:cNvSpPr/>
          <p:nvPr/>
        </p:nvSpPr>
        <p:spPr>
          <a:xfrm>
            <a:off x="458640" y="2370240"/>
            <a:ext cx="82296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68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d the professional learning model change teaching practice in the area of vocabulary? If so, did the change in teacher practice increase student achievement in the area of vocabula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457200" y="180972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from multiple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 assessment data (State and Loc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ct participant online surv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it interviews (students, teachers, administr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U participant online exit surv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ject Evaluation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ta Collection and Re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4"/>
          <p:cNvSpPr/>
          <p:nvPr/>
        </p:nvSpPr>
        <p:spPr>
          <a:xfrm>
            <a:off x="380880" y="182880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tent of the November 12 district-wide professional learning session, Tiered Vocabulary Words and 2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entury Skills (i.e. collaboration, creativity, problem solving), was organized to provide opportunities to learn new teaching strategies for vocabulary and incorporating 21st century ski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036"/>
          <p:cNvSpPr/>
          <p:nvPr/>
        </p:nvSpPr>
        <p:spPr>
          <a:xfrm>
            <a:off x="0" y="614880"/>
            <a:ext cx="914400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napshot of the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11"/>
          <p:cNvSpPr/>
          <p:nvPr/>
        </p:nvSpPr>
        <p:spPr>
          <a:xfrm>
            <a:off x="533520" y="3657600"/>
            <a:ext cx="8408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Number</a:t>
            </a: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Perce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Strongly  Disagree</a:t>
            </a: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Disagre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Neutral</a:t>
            </a: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9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Agree</a:t>
            </a:r>
            <a:r>
              <a:rPr b="1" lang="en-US" sz="2000" spc="-1" strike="noStrike">
                <a:solidFill>
                  <a:srgbClr val="93cdd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59%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Strongly Agree</a:t>
            </a:r>
            <a:r>
              <a:rPr b="1" lang="en-US" sz="2000" spc="-1" strike="noStrike">
                <a:solidFill>
                  <a:srgbClr val="93cdd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1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4"/>
          <p:cNvSpPr/>
          <p:nvPr/>
        </p:nvSpPr>
        <p:spPr>
          <a:xfrm>
            <a:off x="939960" y="239760"/>
            <a:ext cx="725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Fort Calhoun Administration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2" descr="wideDisplayLightOrange.png"/>
          <p:cNvPicPr/>
          <p:nvPr/>
        </p:nvPicPr>
        <p:blipFill>
          <a:blip r:embed="rId1"/>
          <a:stretch/>
        </p:blipFill>
        <p:spPr>
          <a:xfrm>
            <a:off x="641520" y="1168560"/>
            <a:ext cx="7860960" cy="5410080"/>
          </a:xfrm>
          <a:prstGeom prst="rect">
            <a:avLst/>
          </a:prstGeom>
          <a:ln w="0">
            <a:noFill/>
          </a:ln>
        </p:spPr>
      </p:pic>
      <p:pic>
        <p:nvPicPr>
          <p:cNvPr id="565" name="Macintosh HD:Users:billmenousek:Desktop:Fort Calhoun Presentation:Fort Calhoun PowerPoint Video.m4v" descr=""/>
          <p:cNvPicPr/>
          <p:nvPr/>
        </p:nvPicPr>
        <p:blipFill>
          <a:blip r:embed="rId2"/>
          <a:stretch/>
        </p:blipFill>
        <p:spPr>
          <a:xfrm>
            <a:off x="2041560" y="1620720"/>
            <a:ext cx="504360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4" dur="1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3"/>
          <p:cNvSpPr/>
          <p:nvPr/>
        </p:nvSpPr>
        <p:spPr>
          <a:xfrm>
            <a:off x="577800" y="179280"/>
            <a:ext cx="8215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ange teaching practice, an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student achieveme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development must be ongoing, job-embedded, relevant to the teacher’s instructional needs, and collaborative in natu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ellen K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5"/>
          <p:cNvSpPr/>
          <p:nvPr/>
        </p:nvSpPr>
        <p:spPr>
          <a:xfrm>
            <a:off x="291960" y="3978360"/>
            <a:ext cx="836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#1 - To</a:t>
            </a:r>
            <a:r>
              <a:rPr b="0" lang="en-US" sz="28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develop and implement a professional learning program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isn’t a one day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3"/>
          <p:cNvSpPr/>
          <p:nvPr/>
        </p:nvSpPr>
        <p:spPr>
          <a:xfrm>
            <a:off x="291960" y="3456000"/>
            <a:ext cx="51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SU #3 Action Research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"/>
          <p:cNvSpPr/>
          <p:nvPr/>
        </p:nvSpPr>
        <p:spPr>
          <a:xfrm>
            <a:off x="2413080" y="179280"/>
            <a:ext cx="489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the current researc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Box 3"/>
          <p:cNvSpPr/>
          <p:nvPr/>
        </p:nvSpPr>
        <p:spPr>
          <a:xfrm>
            <a:off x="577800" y="179280"/>
            <a:ext cx="8215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reflect the current researc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ange teaching practice, an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student achieveme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development must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go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job-embedded, relevant to the teacher’s instructional needs, and collaborative in natu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ellen K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4"/>
          <p:cNvSpPr/>
          <p:nvPr/>
        </p:nvSpPr>
        <p:spPr>
          <a:xfrm>
            <a:off x="291960" y="5362560"/>
            <a:ext cx="1092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is focused and continuous throughout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school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3"/>
          <p:cNvSpPr/>
          <p:nvPr/>
        </p:nvSpPr>
        <p:spPr>
          <a:xfrm>
            <a:off x="291960" y="3456000"/>
            <a:ext cx="51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SU #3 Action Research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5"/>
          <p:cNvSpPr/>
          <p:nvPr/>
        </p:nvSpPr>
        <p:spPr>
          <a:xfrm>
            <a:off x="291960" y="3978360"/>
            <a:ext cx="836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#1 - To</a:t>
            </a:r>
            <a:r>
              <a:rPr b="0" lang="en-US" sz="28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develop and implement a professional learning program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isn’t a one day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Box 3"/>
          <p:cNvSpPr/>
          <p:nvPr/>
        </p:nvSpPr>
        <p:spPr>
          <a:xfrm>
            <a:off x="577800" y="182520"/>
            <a:ext cx="8215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reflect the current researc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ange teaching practice, an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student achieveme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development must be ongoing, job-embedded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v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teacher’s instructional needs, and collaborative in nature.”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ellen K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291960" y="3979800"/>
            <a:ext cx="84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#2 - The program shou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Focus on a curriculum driven by a need ex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in the district’s school improvement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3"/>
          <p:cNvSpPr/>
          <p:nvPr/>
        </p:nvSpPr>
        <p:spPr>
          <a:xfrm>
            <a:off x="291960" y="3456000"/>
            <a:ext cx="51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SU #3 Action Research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5"/>
          <p:cNvSpPr/>
          <p:nvPr/>
        </p:nvSpPr>
        <p:spPr>
          <a:xfrm>
            <a:off x="326880" y="6246720"/>
            <a:ext cx="71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Include the integration of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Bodoni SvtyTwo ITC TT-Book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century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6"/>
          <p:cNvSpPr/>
          <p:nvPr/>
        </p:nvSpPr>
        <p:spPr>
          <a:xfrm>
            <a:off x="262800" y="5329080"/>
            <a:ext cx="820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Focus 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ies to process content that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 for the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Box 3"/>
          <p:cNvSpPr/>
          <p:nvPr/>
        </p:nvSpPr>
        <p:spPr>
          <a:xfrm>
            <a:off x="577800" y="182520"/>
            <a:ext cx="8215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reflect the current researc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ange teaching practice, an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student achieveme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development must be ongoing, job-embedded, relevant to the teacher’s instructional needs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natu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ellen K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8"/>
          <p:cNvSpPr/>
          <p:nvPr/>
        </p:nvSpPr>
        <p:spPr>
          <a:xfrm>
            <a:off x="291960" y="3978360"/>
            <a:ext cx="836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#3 - The program includes the use of videoconferencing and PLGs for follow-up collabo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3"/>
          <p:cNvSpPr/>
          <p:nvPr/>
        </p:nvSpPr>
        <p:spPr>
          <a:xfrm>
            <a:off x="291960" y="3456000"/>
            <a:ext cx="51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SU #3 Action Research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Box 3"/>
          <p:cNvSpPr/>
          <p:nvPr/>
        </p:nvSpPr>
        <p:spPr>
          <a:xfrm>
            <a:off x="577800" y="182520"/>
            <a:ext cx="8215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reflect the current researc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ange teaching practice, an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e student achiev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development must be ongoing, job-embedded, relevant to the teacher’s instructional needs, and collaborative in natu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ellen K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7"/>
          <p:cNvSpPr/>
          <p:nvPr/>
        </p:nvSpPr>
        <p:spPr>
          <a:xfrm>
            <a:off x="291960" y="3978360"/>
            <a:ext cx="836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odoni SvtyTwo ITC TT-Book"/>
              </a:rPr>
              <a:t>#4 - The professional learning program impacts the improvement of student achiev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3"/>
          <p:cNvSpPr/>
          <p:nvPr/>
        </p:nvSpPr>
        <p:spPr>
          <a:xfrm>
            <a:off x="291960" y="3456000"/>
            <a:ext cx="51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SU #3 Action Research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4" descr="goals2.jpg"/>
          <p:cNvPicPr/>
          <p:nvPr/>
        </p:nvPicPr>
        <p:blipFill>
          <a:blip r:embed="rId1"/>
          <a:stretch/>
        </p:blipFill>
        <p:spPr>
          <a:xfrm>
            <a:off x="5991120" y="4508640"/>
            <a:ext cx="2973600" cy="22287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7" descr="GOALSlightorange.png"/>
          <p:cNvPicPr/>
          <p:nvPr/>
        </p:nvPicPr>
        <p:blipFill>
          <a:blip r:embed="rId2"/>
          <a:stretch/>
        </p:blipFill>
        <p:spPr>
          <a:xfrm>
            <a:off x="0" y="9360"/>
            <a:ext cx="9144000" cy="13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4" descr="goals2.jpg"/>
          <p:cNvPicPr/>
          <p:nvPr/>
        </p:nvPicPr>
        <p:blipFill>
          <a:blip r:embed="rId1"/>
          <a:stretch/>
        </p:blipFill>
        <p:spPr>
          <a:xfrm>
            <a:off x="5991120" y="4508640"/>
            <a:ext cx="2973600" cy="22287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GOALSlightorange.png"/>
          <p:cNvPicPr/>
          <p:nvPr/>
        </p:nvPicPr>
        <p:blipFill>
          <a:blip r:embed="rId2"/>
          <a:stretch/>
        </p:blipFill>
        <p:spPr>
          <a:xfrm>
            <a:off x="0" y="9360"/>
            <a:ext cx="9144000" cy="1390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4:45:39Z</dcterms:created>
  <dc:creator>Media 2</dc:creator>
  <dc:description/>
  <dc:language>en-US</dc:language>
  <cp:lastModifiedBy>Bill Menousek</cp:lastModifiedBy>
  <dcterms:modified xsi:type="dcterms:W3CDTF">2011-01-28T16:16:51Z</dcterms:modified>
  <cp:revision>53</cp:revision>
  <dc:subject/>
  <dc:title>Slide 1</dc:title>
</cp:coreProperties>
</file>